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926-DD2A-4813-AFB0-431F980D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FF1-5A9B-4033-83C6-D0BFE088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D3F-24C4-47D5-B55E-0804B0BF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9F8-BBA8-4091-8EFC-3A2CD394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CF0-3A21-49B2-AD6E-5E08E29C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1E4-2520-45C9-A552-47A6543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647-FD5D-46D4-B359-1982940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E47-7136-40DB-AA0E-3609D1BD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1CB-D5C9-4514-90C4-0F0FB07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57D-A320-4A97-9D0E-48246BB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0E2-E701-4981-8100-1864440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814-A3D7-472F-BD13-6DDC223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51CD-508A-452A-9D82-BF8C8FF6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omoge.com/modern-private-mansion-located-in-brighton/modern-private-mansion-located-in-brighton-pools-photos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dresdes.com/2010/12/upholstery-cushion-and-aquarium-home-decoration-ideas/modern-dining-room-with-large-aquariu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La Mansi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or: Eesha Yad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53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garaje. El garaje es moderno y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527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Modern Private Mansion Located in Brighton Pools Photos Modern Private Mansion Located in Bright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514600"/>
            <a:ext cx="5048280" cy="3362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21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mansi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n. La mansión es moderna y gra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57800" cy="322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cocina. La cocina es magnifica y increí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dern dining room with large aquar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524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6858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comedor. El comedor es nuevo y magnif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276880" cy="394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a sala. La sala es fabulosa y </a:t>
            </a: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asombrosa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458040" cy="404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094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baño. El baño es lujoso y magnífi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cuarto. El cuarto es nuevo y bel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wesome Aquarium Bedroom Interior Design"/>
          <p:cNvPicPr/>
          <p:nvPr/>
        </p:nvPicPr>
        <p:blipFill>
          <a:blip r:embed="rId1"/>
          <a:stretch/>
        </p:blipFill>
        <p:spPr>
          <a:xfrm>
            <a:off x="1905120" y="2133720"/>
            <a:ext cx="5267160" cy="3668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Home Design, SAOTA Nettleton 198: Beautifully Modern Home in Clifton, South Africa: Nettleton 198 Exterior Contemporary Huge Sun Patio Design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04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patio. El patio es estupendo y lujoso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81720" cy="4362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533520"/>
            <a:ext cx="69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 un jardín. El jardín es bello y boni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1:43Z</dcterms:created>
  <dc:creator>yadavees</dc:creator>
  <dc:description/>
  <dc:language>en-US</dc:language>
  <cp:lastModifiedBy>yadavees</cp:lastModifiedBy>
  <dcterms:modified xsi:type="dcterms:W3CDTF">2012-10-25T18:07:55Z</dcterms:modified>
  <cp:revision>5</cp:revision>
  <dc:subject/>
  <dc:title>La Mansión</dc:title>
</cp:coreProperties>
</file>